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C13B-E602-4A26-8BFF-E172FA6E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70B4-64AB-4719-B1E8-48502AB5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5E60-D993-4FE6-87DD-68C3A395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5CE1-764D-4612-BD9B-3F746F50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4CD6-7C98-42DF-83EC-8CDCB5F6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E21D-4FE1-4C04-BAC1-D09272F5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B53-EA92-4483-AAF5-45188156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9864-278F-4891-ACC6-3896801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4FEA-928F-4499-9A07-0724B4F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9CFE-965D-4ED3-B703-DBA7F2EA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5BC0-B221-4EF1-958B-65E9AFFF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37B0-BBE6-4E77-B173-A7C5C799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E87B-0D30-47BD-B4B6-56EC6BD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DD21-A3D1-4BEF-9823-BD0B472F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A177-9003-4515-84DF-BF747221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FBFA-2D69-4300-9B37-3EEC237B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6BF-1971-47AC-990F-57F91C3C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C746-EB4D-4058-92C2-B666B694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E895-073A-4C44-9983-BE33FC31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0920-8041-495D-B658-0F1B4D0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E63C5-E750-4BA7-AA72-79227E3D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4E6B-16AA-46F5-943E-62B842A8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7C94-831D-4CCB-A95E-AF0177D7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FA52-4B5C-4412-ACD4-9126F5C4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9B1D-6A1F-4772-B816-BC81E0C647A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CF0-931E-4E91-9661-6FCC71E3285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98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9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14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Боже, да ме не оставиш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Христа да се отрек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е Ти да не забрави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би да заблуд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храни ме, опази м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как да не съгреш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126440"/>
            <a:ext cx="95774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Кой да ме избави мож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ластта на Сатан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ми благодат, о,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помня всяког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Спасител и Уч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ямам друг, освен Хрис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125720"/>
            <a:ext cx="95774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Да избягвам зло познат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слушам Сата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да търся място свя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олитва настра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намеря там чре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яра Бога, мир и тишин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1-28T08:23:00Z</dcterms:modified>
  <cp:revision>123</cp:revision>
  <dc:subject/>
  <dc:title>Slide 1</dc:title>
</cp:coreProperties>
</file>